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51A-60C7-40E8-8BC9-9D1B8529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A54-90D6-4EEE-A2AE-864F9D32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2B240-CD01-4414-9F7E-CACCB14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9669-0F94-4C6C-A7F6-1AB99848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E2E1D-F665-42AA-9B6A-3D7CA38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7AC70-D6A1-4D90-B294-606F39B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ACED5-3D0C-4773-8A19-4A7F87B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57776-A135-43B8-9308-9C86AB2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90E50-B7B1-422A-9652-ECE7349A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79430-0662-4F47-888F-574AE71F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A97F-982F-4751-971B-89B4AA98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7343B-A109-4475-B225-EC631C6D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0DF-BBB2-46C1-AA0F-04D3C482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7C54D-A619-4C8C-8F35-F3819E2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0BF2-BAA4-420C-B94A-88204DEA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530D2-76B0-4DFD-86E9-C6AF07BA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1145F-96A5-497D-A3B4-8960C21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9E705-D346-4C30-89A1-767A39B3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98F88-44DB-4B3D-A5EE-030F1DE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570F9-9E15-4C10-9E9C-D6DB5B5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0107C-4D7C-450C-B79A-5A7113D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4B7E5-0AB2-491F-AFE1-39E3640D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8EFF-629B-49D3-B1D1-24EECCA3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267-ED96-4134-A0C2-8F52A4C1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3CAF4-DC3E-4561-8560-98A7F3D7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08E69-24B0-481A-840B-99055F35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5049-BF7B-4320-AAD8-11660CAE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08C70-6066-4613-8FAD-753F1634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4CBB-FE67-4B3A-8BD2-08616BBD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E397-36B9-4EF5-AD91-769E9445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19ED-0C1D-4B6E-9577-4412578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65FD2-80E1-41F1-9F4D-D5F6C95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8DD4-38EB-45C2-A762-DD2D707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0C296-57FF-4FAB-8B08-9B80C5C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FA2-9EC4-4D61-9E08-6FBB8BA9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665A4-936A-4EE0-8E87-DA6CA6A3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AC450-23A7-46C7-B42D-1979DED9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0FCE0-4996-48BB-BB85-25E26226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751A9-D298-47BD-869E-F5157D2D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0CF87-03C8-4D1B-84BD-00DB4A3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DAB9F-5BDE-4C1B-A933-7C9E784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4E23C-CA49-4C86-A2BB-4C92044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369C8-EAA2-4F13-BFC9-9CBF15B7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42380-5614-4BAA-9667-7F5ED9C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E10C5-884B-4B3A-819D-F815D57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3317-30AC-41C2-9F8B-8C3E07D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33F6A-C4C6-4FAF-A2DB-4CF7F84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5EF1B-8222-4183-9F5A-C18C7DC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A94F1-71C9-4E02-B6C6-06257D21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35A8-AE0D-4B28-916F-D7130517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F11EE-D10D-423C-A727-E5D03346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1BFF3-5718-4D80-8E99-779237F9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252BA-147A-4E88-AAA3-80F7299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A8ED-CF38-47C9-B2E4-A889338C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33AEF-4314-4AB0-B9FC-1EE45A9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3817F-C41F-41A5-B481-7E9B980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0BF3-7FBC-40FE-ABED-18BCD7E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31A88-ED2D-43E6-BE5A-AEFF8B4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4353E-1C8A-4520-AE08-7B71104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DED89-F888-4763-BC77-B6BCF04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5C996-B49A-4B3C-800E-A94BA43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96A0B-9104-404C-8BBF-B961D3EE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682A6-A807-4919-829E-BD15C1E4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03CC9-F5F9-4089-BE05-7C2AC46A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0B7F3-EC17-4DE2-A1C9-14974B11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A0525-1950-49FF-9610-B332BC2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3F039-B4C3-4A26-85CE-F009FD9F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06C-6220-45B1-9FC4-2A50B06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882EA-99E7-409B-8533-5775245F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A3ADB-0886-48E9-993B-C0C1A757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AD757-2DF4-449A-8859-D38A393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38EF8-2E20-47F3-95BB-F58ADF5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C3BC5-FD5F-4CF2-B9D5-6923521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1B477-F531-4CC1-B7E5-F72B216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AF412-178D-4391-AFED-93BAD22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8ED39-A04B-4578-8F8D-3AA1C2DA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28A0E-1866-4F1B-B534-35ACAC38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0C043-8A3C-41B3-91F8-2759BF05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B40-CB4E-4CED-B374-0B37FB2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06505-5D4D-4A61-9262-9F781B2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6B841-4BA6-4E5C-B094-95404D86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442F9-BD6E-4CBF-9470-22F1211D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74FDE-2974-490D-A3D6-436C3E87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25CEC-8008-496B-9B84-36653A8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CE55F-E7F5-40A3-9DDB-1F047F1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1A8EB-C186-48D4-8656-FE7CF70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42393-6799-4DA2-859D-4DF1F6C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8995E-B559-4E56-9C46-BB4398D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3DEF9-FE4C-4082-B629-A34629EF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1290-47D9-49CB-86BB-5B1D6F6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B5994-1BE2-416D-9E4A-89676E0D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054A8-24F2-4FF0-9483-41F58E70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D532E-2A24-4E69-8EF7-F0C08A6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82D1D-ABB5-4FF3-81F1-09086FB9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2FD2F-0642-4FE5-B6AE-2DF9A551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4EDFE-674F-4793-9412-D24FDC2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3C856-DF80-40CB-AA39-3A71EAB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548D1-E723-4A70-B3B5-76B32D4E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50B3C-71D3-4BC6-9CAA-860CB25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F084F-D818-44AA-81D6-7772817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4EF-0D7B-4644-9C82-597F975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F1D6D-3D58-4CD8-9F89-48D8C248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EFE0C-6D9F-4782-8C65-05489A65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B4950-B20A-4EA2-8CD0-16DADBC1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FCC92-98DE-4C22-8098-FAE57AC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4CF11-7C88-4149-A3A4-EBD68EF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A3A5A-114B-4F43-8AFA-04535977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A931D-C520-4050-9EBD-67572ED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FB355-FD72-4E9F-9EBA-53588A2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D04EC-5E67-4083-9D3E-FEC6D80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5F915-0E36-4022-866E-BDF7CC1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67E-836F-41AF-B568-F553119D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BEC3-706E-4186-98E1-BF1FD6F0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43CCE-7B73-4E6F-AEAE-A0F1EB1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521D3-EAC1-484D-ABAE-D626597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10236-E647-423A-8C8A-8CAB121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CE154-5C5D-4DED-AEB3-E0A7F6E4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748F6-777E-4470-BB69-2160311A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85004-8D0F-4642-AA5B-50E0505B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ECC14-16D9-4E05-9A18-BF0D9807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1193D-D7FA-4EA1-91AD-77E958B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5BBFE-7BBB-4D8D-A1B1-6B2CDF5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105B5-1471-481D-BD5F-3F58662D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DF95-0CEA-4EA7-AF94-39E5CC33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14B52-8119-47C7-8A48-E965BD6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3222F-2874-4903-83A7-3844A75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9B9B1-2B58-405B-BCFA-65BC1D7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C7887-5C5A-4465-9FC4-60CBBB6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20837-C93C-486A-A950-9946875C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F5915-80DA-4DFE-8402-80A9CBDC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CBBDA-46FD-45CE-8F49-3F3EC6F6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90770-248F-40A2-8914-77CFB1F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28B78-523B-4199-B917-8986AB8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2D758-2CBC-4296-B3C4-40B9240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EF9-8C01-4A5A-B645-E777117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3AB17-BF50-4145-9347-BFD1A43F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3E5DD-D4BE-4F96-84F9-FDCA4F1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ADA72-D0FF-4891-8ADD-F194045D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E39F5-DAA4-4461-AE34-EF35396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ADE60-0A20-416E-A818-928FEC5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C4361-6E3C-415B-B6ED-47A6C5C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8E76C-D5AF-42C1-A93C-ED08FE83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525B6-4942-42AC-A210-A6F8381A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3C8BB-7986-42DD-8101-AC1DAA6E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B2A7E-72AB-4BF1-A5CD-DC632E12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F9C5-D9F9-4DA5-BE10-E21A2C0A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98D2C-0C8A-4BA9-AD33-CDD1FBC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138DC-BFAB-4B40-AA4B-C2BB922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85F60-17FF-4958-B372-28BB0A3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2F22E-3DDF-4930-87DB-1839159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B6ECE-5531-4677-ADC7-89834CA7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3BA89-2D5B-4782-9547-B23BD69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6DF17-6C25-45EE-85D2-1B481BEC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89B8F-5F59-405F-880B-84742AB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93B08-9A0D-4B2A-90E3-869BFC5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63CE5B-0BB3-464F-9258-A7EA427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A7AB-DB8E-4E84-8638-DCFB864E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45528-885B-4B1C-9517-2991272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C5231-4A8B-4325-BC1E-3B6C7760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5015E-D497-4DFD-9D16-2BBD340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78BD5-4010-4220-8B3B-98951BEA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4825E-702E-476C-A5B5-DC336797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7188B-2912-4A8C-9414-E173BA1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180E4-5E47-48EC-B96E-98ACCE2D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CF75A-3B98-46F7-A9AF-C21E4AE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EBA06E-0341-489D-BAF4-4F44FD8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C7DF8C-6701-4FC2-B923-2D53E34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0D9F-8939-4606-91B9-E94A6F92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7E65A-3FD4-4772-9EC8-19E8E4F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B9173-006D-4BFC-9C09-28850FAD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210C0-B752-4CC7-ADDD-4DD77B95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EEC9-D2D2-4A1C-88E6-A9D43D91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FCC6-C3CA-4592-8358-E0D04504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FA06-EA92-4274-A789-44FB4EF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5848-F5BA-4803-BADA-5501507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BC1-43C5-49D2-830A-86DE0E5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80CE-BF7F-412D-8C0A-8A7981B6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BAAB-62B0-42B4-BF9E-02E62CB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6A45-8873-46EE-B1B3-26B3F44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7D57-2194-4AE9-A0C3-69BA444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0B41-6F1A-4719-B404-EB1E525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A57D-1A10-450E-A38D-1308E3A3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6C62-E585-45BB-AD55-4B81B170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3554-9ECF-441C-AF09-7B06130E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84EE-99B7-495A-8EE9-89E8439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3682-CFFD-4C35-A017-9ED6676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910-C4C8-426D-8EEF-E468A4D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5DDC-8C67-4476-B3C0-E5A1DB55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1CAB-D2E6-4DAB-819A-86E5B51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7D655-E2E8-4B8E-86E0-131C53E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7AF0-F733-4B24-946C-F25A579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C8F1-93E0-47F2-9610-2D4DAE6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062A-18E9-41A1-825F-08EAE3F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32BC-6EF6-4296-BB25-F4ED806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E572-51F0-4FB4-9BA6-0DFC146F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034A-F176-459D-9EA5-778F8C6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F148-3311-4A00-8F41-704A7382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EB9-E2C1-4A09-AA1A-CB0004F8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E558-98E2-4689-B142-65AEF9C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4FA3-7E59-41A7-8C02-5799337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25F0-60E1-47DB-B215-13F0F667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CD8B-A614-4962-A5B8-37481102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35E53-FB48-40E5-875A-59D34BAB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2EE1-81A3-4C16-AE2E-E7EEBD2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BC51-7B83-4E7F-AA20-F90F468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14F3F-B810-43BE-9017-9A7DF6E2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C88C-2C9C-40DC-939A-9A9F02CC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8604-F8A3-4601-88B4-3D6FE727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EF1-1E29-4470-A449-7EF1176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741E-9223-4A87-8E79-1C1B0ED9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74C4-965C-484A-ABC5-3CA7A311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BBB8-E56E-4D89-8733-29F4CC0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F8D2-250D-4EED-8789-D5AE0A0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5BC8-7146-4D6E-BBA0-82BCE14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CEDB-1B41-4391-BB98-81837BE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7866-1535-4D74-B429-40ECEE2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9CF6-B8D0-4077-AD81-5F5D89AA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83F0-C436-4736-A34A-F4F1DE1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4832-20FE-4584-BF7E-249CD72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507-58AF-4575-9BC7-AB7A148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4D0A-2CC5-4BCD-8CA9-BE9A62F2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333F-9EE3-4D0F-A2B8-8453E159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EEEA-0130-42CE-9B80-D8BEF1BF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2F8FF-CD96-4961-A028-04723E06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CA14D-003B-45DC-8A98-C7538012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AEF1-1789-4C7D-93D8-CE0903B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FF7E-078A-4F04-9E8D-FBC583B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5F37-B59B-49C4-B794-A89648DE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5E9D-FEF3-4588-893E-32C00A4B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941A-A55C-4853-A9D8-3BE8BD6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255-60A8-4904-852E-A70F79BE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0FC7-0D1B-4A12-B856-8E516E2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B8CA-F93E-4EEE-9A74-1312F94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1F3A5-066D-479C-B71F-2FCA113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9ED3-FAFF-459D-B9BA-2C63F3C1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8AE7-0197-4CFF-8432-D74B0B0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805E2-A56C-467D-83AB-DAD0CAA9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C76D-49A7-4AB3-81EC-B46149D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A86F-6039-4D4E-96FE-851A92E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EFC3-716D-4977-A403-968B5DC3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D1AF-E383-4CE5-A6B0-3D5B3D6D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A80-C6C5-4BE0-A29B-5057051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CD3B4-9498-4361-9D86-85F0769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3F3D8-71F4-48B8-8088-10DBBC8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4E78-7886-4A8B-85C0-A6D176C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FBFE-1D95-48B2-8485-C47CACD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A1FD-A580-41B4-A613-E4D79643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1539-F1FB-4A59-87BF-531B464A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723E-B79B-44E6-B0FA-219E1CCE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A0C2-17F6-48B1-B7DD-B0D5A0A8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318DC-224D-47CE-8A43-0ACAEEF1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2D64F-FF12-4140-A7F1-669508E5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23D-B534-4EF8-A13A-CF88764C8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3CB4-5E41-445F-A930-E9CD4839D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159-679E-444B-8A45-D9D309B0E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151C-E52C-4D8F-97B6-E7EC3088E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DB7D-DA7E-47F2-A619-21116EAD72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12C5-5F26-4B39-B096-2BAF55A4B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381A-20AA-4E0D-9129-58C8AEFE9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E25-9A1C-4183-937F-7C9A95112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BA5-4A3C-4F47-BE64-6E6F6C5F9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F3F-26B4-49FE-B44F-2913A6B70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315C-E3F3-48ED-B533-705DB8BA23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447-B3F2-4D4C-9FCB-F375F1BD7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7CA-F1C4-4104-898D-77B6AC6FB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6D9-E40C-409F-99AB-9FD97A4028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04D-3DDE-4C84-A5CC-D50FFE994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DA5-4650-45B3-B399-BD3F63479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434-EBD1-4341-8B30-34E748126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9265-49E5-4E1F-915F-1EE8738EC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BCF-648A-4021-8581-74F98FE2C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D65C-FA42-45EC-A451-91B261097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E3D1-747D-4A9E-9478-B73BAA13A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244D-0B3F-4F32-A5A9-9878D97FE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2A9-A089-4AB7-B085-46F2BFC26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F101-E420-459A-BEAB-3744325AB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2B2-A8F2-45D4-91BE-B23A4DB8F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BF2E-1352-47C8-AE91-3FC21110AF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DF81-78FC-4066-8341-02D86753E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287-269A-4D3E-8D3C-FBF84910E9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69AD-FD2C-440F-BC93-50BC4A1F3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D7B-4134-4B79-9BEF-39ABE1F33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4D3-9199-4026-A113-A9E5BC2FE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142-9E8B-4305-A90F-A70E3658A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2BA-4B6C-4905-97C9-FBBBF0C240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C24-35D1-4980-A9FC-3E77053040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789-FF91-4D27-A03E-94DDA84B5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B66-DF7A-4919-BD68-F19583197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6C73-AF48-4601-9560-B29F0C10E4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E95-0769-4576-8B14-205874FF64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CB27-249C-453F-A9F5-76F3E9D1E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38C-3884-466A-AE77-9107A9757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9440" y="1598760"/>
            <a:ext cx="8317080" cy="884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897200" y="3527280"/>
            <a:ext cx="59338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1328760" y="1197000"/>
            <a:ext cx="6486480" cy="22478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557280" y="3529080"/>
            <a:ext cx="8029440" cy="2276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586400" y="146988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236000" y="145584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486320" y="227664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236000" y="232092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397240" y="3789360"/>
            <a:ext cx="576000" cy="735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5176800" y="380376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7956720" y="377496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2124000" y="465300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4788000" y="4653000"/>
            <a:ext cx="647640" cy="735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812000" y="4667400"/>
            <a:ext cx="6476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480960" y="851040"/>
            <a:ext cx="8182080" cy="596268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250920" y="23760"/>
            <a:ext cx="3146400" cy="884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234040" y="5272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219640" y="623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408800" y="4264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423200" y="52434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740880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633240" y="933480"/>
            <a:ext cx="7877520" cy="4991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596360" y="2133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619280" y="3284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3203640" y="5316480"/>
            <a:ext cx="863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85840" y="1886040"/>
            <a:ext cx="8572320" cy="3085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529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5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763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290520" y="1019160"/>
            <a:ext cx="8562960" cy="4819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363760"/>
            <a:ext cx="360072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36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329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5200" y="1623960"/>
            <a:ext cx="8553600" cy="3610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808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826920" y="4164120"/>
            <a:ext cx="79930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304920" y="1852560"/>
            <a:ext cx="8534160" cy="31528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43797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314280" y="1881360"/>
            <a:ext cx="8515440" cy="3095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9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9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43797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76120" y="147600"/>
            <a:ext cx="8591760" cy="6562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6408720" cy="555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6408720" cy="555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71640" y="5013360"/>
            <a:ext cx="6408720" cy="555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00000" y="5676840"/>
            <a:ext cx="79930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4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